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83D-6CED-4AB9-A33A-FE3EBEE8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0D1F-DB3D-44E7-BF0C-54F30519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361-562C-4967-A787-14B23498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1FC-F20A-4441-AE64-A5B17239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D9D-D7D4-4828-B14A-4CBEE408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A214-1E0A-4E2C-9992-1D6A9221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2CD-2C1C-40DB-A41A-ADDD6CFF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A06-A828-465E-8297-2B3867E8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361-FDF4-485B-B06E-7BCA86E4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887-32AC-4977-8016-EBD29DD2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239-1489-4325-87A5-2358C41A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F8F-3E29-4009-9A4D-6D7FBD02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A30F-8ADD-43B8-83FA-6B5CB4520A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2T14:02:15Z</dcterms:created>
  <dc:creator>Helen</dc:creator>
  <dc:description/>
  <dc:language>en-US</dc:language>
  <cp:lastModifiedBy>Helen</cp:lastModifiedBy>
  <dcterms:modified xsi:type="dcterms:W3CDTF">2013-06-02T14:09:35Z</dcterms:modified>
  <cp:revision>1</cp:revision>
  <dc:subject/>
  <dc:title>Слайд 1</dc:title>
</cp:coreProperties>
</file>